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6-08-19T15:44:15.680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A86-526A-4C6B-871F-D0C604374F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5071-35E5-42F5-9261-BB902D3FB9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C79D-5137-4CB6-8DE8-BBCFE31642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加减混合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4067280" y="3500280"/>
            <a:ext cx="352908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851280" y="256536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解决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62080" y="18792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老师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这三样学习用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支钢笔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979960" y="836640"/>
            <a:ext cx="259272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b04.jpg" descr="id:2147501239;FounderCES"/>
          <p:cNvPicPr/>
          <p:nvPr/>
        </p:nvPicPr>
        <p:blipFill>
          <a:blip r:embed="rId2"/>
          <a:stretch/>
        </p:blipFill>
        <p:spPr>
          <a:xfrm>
            <a:off x="1803240" y="3546360"/>
            <a:ext cx="5472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403280" y="2637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一支钢笔多少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用花的总钱数减去削笔器和笔记本的价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列连减算式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先求出买削笔器和笔记本一共花了多少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从总钱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减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484360" y="32130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(22+18)=1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支钢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6" name="矩形 1"/>
          <p:cNvSpPr/>
          <p:nvPr/>
        </p:nvSpPr>
        <p:spPr>
          <a:xfrm rot="18297600">
            <a:off x="5592240" y="4339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763640" y="1844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鸭的只数比鸡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鸭共有多少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2340000" y="4076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1187280" y="285264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求出来的结果是鸭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鸡和鸭一共的只数。求一共的只数要把鸡和鸭的只数加起来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50=8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 rot="18297600">
            <a:off x="5881680" y="4843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0"/>
          <p:cNvSpPr/>
          <p:nvPr/>
        </p:nvSpPr>
        <p:spPr>
          <a:xfrm rot="18297600">
            <a:off x="5376600" y="333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763640" y="184464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鸭的只数比鸡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鸭共有多少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2771640" y="4869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50=8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2843280" y="342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+15=5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1222200" y="1817640"/>
            <a:ext cx="47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老师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下面的这些物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够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2565360" y="4567320"/>
            <a:ext cx="383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+28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3513240" y="5504040"/>
            <a:ext cx="180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：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g40.jpg" descr="id:2147501165;FounderCES"/>
          <p:cNvPicPr/>
          <p:nvPr/>
        </p:nvPicPr>
        <p:blipFill>
          <a:blip r:embed="rId2"/>
          <a:stretch/>
        </p:blipFill>
        <p:spPr>
          <a:xfrm>
            <a:off x="2268360" y="3133800"/>
            <a:ext cx="4237200" cy="1390680"/>
          </a:xfrm>
          <a:prstGeom prst="rect">
            <a:avLst/>
          </a:prstGeom>
          <a:ln w="0">
            <a:noFill/>
          </a:ln>
        </p:spPr>
      </p:pic>
      <p:sp>
        <p:nvSpPr>
          <p:cNvPr id="18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91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2"/>
          <p:cNvSpPr/>
          <p:nvPr/>
        </p:nvSpPr>
        <p:spPr>
          <a:xfrm>
            <a:off x="826920" y="1887480"/>
            <a:ext cx="57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老师看到了几本教学用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的定价分别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王老师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买了两本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王老师买的是哪两本书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1503360" y="4351320"/>
            <a:ext cx="340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15"/>
          <p:cNvGrpSpPr/>
          <p:nvPr/>
        </p:nvGrpSpPr>
        <p:grpSpPr>
          <a:xfrm>
            <a:off x="5286240" y="3933720"/>
            <a:ext cx="3922560" cy="2571840"/>
            <a:chOff x="5286240" y="3933720"/>
            <a:chExt cx="3922560" cy="2571840"/>
          </a:xfrm>
        </p:grpSpPr>
        <p:pic>
          <p:nvPicPr>
            <p:cNvPr id="196" name="Picture 17" descr="20"/>
            <p:cNvPicPr/>
            <p:nvPr/>
          </p:nvPicPr>
          <p:blipFill>
            <a:blip r:embed="rId3"/>
            <a:stretch/>
          </p:blipFill>
          <p:spPr>
            <a:xfrm>
              <a:off x="7048080" y="393372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AutoShape 16"/>
            <p:cNvSpPr/>
            <p:nvPr/>
          </p:nvSpPr>
          <p:spPr>
            <a:xfrm>
              <a:off x="5286240" y="4365360"/>
              <a:ext cx="2232000" cy="1049040"/>
            </a:xfrm>
            <a:prstGeom prst="wedgeRoundRectCallout">
              <a:avLst>
                <a:gd name="adj1" fmla="val 60300"/>
                <a:gd name="adj2" fmla="val 17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剩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，说明花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0"/>
          <p:cNvSpPr/>
          <p:nvPr/>
        </p:nvSpPr>
        <p:spPr>
          <a:xfrm>
            <a:off x="1149480" y="1773360"/>
            <a:ext cx="55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足球和一个排球的钱比一副羽毛球拍多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1"/>
          <p:cNvSpPr/>
          <p:nvPr/>
        </p:nvSpPr>
        <p:spPr>
          <a:xfrm>
            <a:off x="2976480" y="4935600"/>
            <a:ext cx="347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+28-25=4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51.jpg" descr="id:2147501573;FounderCES"/>
          <p:cNvPicPr/>
          <p:nvPr/>
        </p:nvPicPr>
        <p:blipFill>
          <a:blip r:embed="rId3"/>
          <a:stretch/>
        </p:blipFill>
        <p:spPr>
          <a:xfrm>
            <a:off x="2289240" y="2924280"/>
            <a:ext cx="4279680" cy="1544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1187280" y="206388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购买两件商品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多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妈妈可能买了哪些商品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2651040" y="4710240"/>
            <a:ext cx="338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7+2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g42.jpg" descr="id:2147501321;FounderCES"/>
          <p:cNvPicPr/>
          <p:nvPr/>
        </p:nvPicPr>
        <p:blipFill>
          <a:blip r:embed="rId2"/>
          <a:stretch/>
        </p:blipFill>
        <p:spPr>
          <a:xfrm>
            <a:off x="1209600" y="3262320"/>
            <a:ext cx="6886800" cy="1436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1"/>
          <p:cNvSpPr/>
          <p:nvPr/>
        </p:nvSpPr>
        <p:spPr>
          <a:xfrm>
            <a:off x="2651040" y="5288040"/>
            <a:ext cx="4081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+22=5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2641680" y="5805360"/>
            <a:ext cx="408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+22=64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924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数学的角度提出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利用题目中的信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出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42920" y="41497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发现问题、提出问题和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g44.jpg" descr="id:2147501505;FounderCES"/>
          <p:cNvPicPr/>
          <p:nvPr/>
        </p:nvPicPr>
        <p:blipFill>
          <a:blip r:embed="rId1"/>
          <a:stretch/>
        </p:blipFill>
        <p:spPr>
          <a:xfrm>
            <a:off x="1763640" y="2554200"/>
            <a:ext cx="5329440" cy="179568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539640" y="1773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买下面三件商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哪三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算式表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2058840" y="4541760"/>
            <a:ext cx="58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式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3308400" y="454176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48         25         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6"/>
          <p:cNvSpPr/>
          <p:nvPr/>
        </p:nvSpPr>
        <p:spPr>
          <a:xfrm>
            <a:off x="3308400" y="488160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25        60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7"/>
          <p:cNvSpPr/>
          <p:nvPr/>
        </p:nvSpPr>
        <p:spPr>
          <a:xfrm>
            <a:off x="3308400" y="5318280"/>
            <a:ext cx="394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          60          5         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2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6012000" y="1413000"/>
            <a:ext cx="2647440" cy="1368360"/>
            <a:chOff x="6012000" y="1413000"/>
            <a:chExt cx="2647440" cy="1368360"/>
          </a:xfrm>
        </p:grpSpPr>
        <p:sp>
          <p:nvSpPr>
            <p:cNvPr id="230" name="AutoShape 27"/>
            <p:cNvSpPr/>
            <p:nvPr/>
          </p:nvSpPr>
          <p:spPr>
            <a:xfrm>
              <a:off x="6012000" y="1413000"/>
              <a:ext cx="262764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6065640" y="1681200"/>
              <a:ext cx="259380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考虑问题要全面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33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矩形 21"/>
          <p:cNvSpPr/>
          <p:nvPr/>
        </p:nvSpPr>
        <p:spPr>
          <a:xfrm>
            <a:off x="822240" y="3573360"/>
            <a:ext cx="756612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综合运用两位数加、减两位数的知识解决简单的生活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既要熟练、准确地计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又要密切联系生活实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822240" y="5157720"/>
            <a:ext cx="7566120" cy="94716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写满足条件的算式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我们还可以先有规律地列出算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选择满足条件的算式</a:t>
            </a:r>
            <a:r>
              <a:rPr b="0" lang="zh-CN" sz="2800" spc="-1" strike="noStrike">
                <a:solidFill>
                  <a:srgbClr val="7030a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772400" y="650700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843280" y="5516640"/>
            <a:ext cx="352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7"/>
          <p:cNvSpPr/>
          <p:nvPr/>
        </p:nvSpPr>
        <p:spPr>
          <a:xfrm>
            <a:off x="1042920" y="1628640"/>
            <a:ext cx="53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暖水瓶和一个茶杯一共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65" name="g41.jpg" descr="id:2147501307;FounderCES"/>
          <p:cNvPicPr/>
          <p:nvPr/>
        </p:nvPicPr>
        <p:blipFill>
          <a:blip r:embed="rId3"/>
          <a:stretch/>
        </p:blipFill>
        <p:spPr>
          <a:xfrm>
            <a:off x="2666880" y="2790720"/>
            <a:ext cx="3490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2987640" y="5373720"/>
            <a:ext cx="417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826920" y="1700280"/>
            <a:ext cx="55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拿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一个水壶，还剩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74" name="g41.jpg" descr="id:2147501307;FounderCES"/>
          <p:cNvPicPr/>
          <p:nvPr/>
        </p:nvPicPr>
        <p:blipFill>
          <a:blip r:embed="rId3"/>
          <a:stretch/>
        </p:blipFill>
        <p:spPr>
          <a:xfrm>
            <a:off x="2987640" y="2827440"/>
            <a:ext cx="3492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n9.jpg" descr="id:2147501123;FounderCES"/>
          <p:cNvPicPr/>
          <p:nvPr/>
        </p:nvPicPr>
        <p:blipFill>
          <a:blip r:embed="rId1"/>
          <a:stretch/>
        </p:blipFill>
        <p:spPr>
          <a:xfrm>
            <a:off x="971640" y="1282680"/>
            <a:ext cx="7527960" cy="150984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6"/>
          <p:cNvSpPr/>
          <p:nvPr/>
        </p:nvSpPr>
        <p:spPr>
          <a:xfrm>
            <a:off x="4968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824200" y="8668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一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24aa.eps" descr="id:2147501130;FounderCES"/>
          <p:cNvPicPr/>
          <p:nvPr/>
        </p:nvPicPr>
        <p:blipFill>
          <a:blip r:embed="rId2"/>
          <a:srcRect l="0" t="0" r="48404" b="0"/>
          <a:stretch/>
        </p:blipFill>
        <p:spPr>
          <a:xfrm>
            <a:off x="468360" y="3111480"/>
            <a:ext cx="4741920" cy="18302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53"/>
          <p:cNvGrpSpPr/>
          <p:nvPr/>
        </p:nvGrpSpPr>
        <p:grpSpPr>
          <a:xfrm>
            <a:off x="5435640" y="3262320"/>
            <a:ext cx="3432240" cy="1923840"/>
            <a:chOff x="5435640" y="3262320"/>
            <a:chExt cx="3432240" cy="1923840"/>
          </a:xfrm>
        </p:grpSpPr>
        <p:sp>
          <p:nvSpPr>
            <p:cNvPr id="80" name="AutoShape 32"/>
            <p:cNvSpPr/>
            <p:nvPr/>
          </p:nvSpPr>
          <p:spPr>
            <a:xfrm>
              <a:off x="5435640" y="3357360"/>
              <a:ext cx="2117880" cy="1048680"/>
            </a:xfrm>
            <a:prstGeom prst="wedgeRoundRectCallout">
              <a:avLst>
                <a:gd name="adj1" fmla="val 58597"/>
                <a:gd name="adj2" fmla="val 19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减去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多，得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40" descr="20"/>
            <p:cNvPicPr/>
            <p:nvPr/>
          </p:nvPicPr>
          <p:blipFill>
            <a:blip r:embed="rId3"/>
            <a:srcRect l="-1603" t="11480" r="20282" b="13705"/>
            <a:stretch/>
          </p:blipFill>
          <p:spPr>
            <a:xfrm>
              <a:off x="7110720" y="3262320"/>
              <a:ext cx="1757160" cy="19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52"/>
          <p:cNvGrpSpPr/>
          <p:nvPr/>
        </p:nvGrpSpPr>
        <p:grpSpPr>
          <a:xfrm>
            <a:off x="1809720" y="4753080"/>
            <a:ext cx="4321080" cy="1954080"/>
            <a:chOff x="1809720" y="4753080"/>
            <a:chExt cx="4321080" cy="1954080"/>
          </a:xfrm>
        </p:grpSpPr>
        <p:sp>
          <p:nvSpPr>
            <p:cNvPr id="83" name="AutoShape 31"/>
            <p:cNvSpPr/>
            <p:nvPr/>
          </p:nvSpPr>
          <p:spPr>
            <a:xfrm>
              <a:off x="3330360" y="4753080"/>
              <a:ext cx="2800440" cy="654120"/>
            </a:xfrm>
            <a:prstGeom prst="wedgeRoundRectCallout">
              <a:avLst>
                <a:gd name="adj1" fmla="val -66898"/>
                <a:gd name="adj2" fmla="val 6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能买童话故事、娃娃或书包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1809720" y="491508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n9.jpg" descr="id:2147501123;FounderCES"/>
          <p:cNvPicPr/>
          <p:nvPr/>
        </p:nvPicPr>
        <p:blipFill>
          <a:blip r:embed="rId1"/>
          <a:stretch/>
        </p:blipFill>
        <p:spPr>
          <a:xfrm>
            <a:off x="971640" y="1382760"/>
            <a:ext cx="752796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54"/>
          <p:cNvGrpSpPr/>
          <p:nvPr/>
        </p:nvGrpSpPr>
        <p:grpSpPr>
          <a:xfrm>
            <a:off x="6284880" y="3181320"/>
            <a:ext cx="3003120" cy="1957320"/>
            <a:chOff x="6284880" y="3181320"/>
            <a:chExt cx="3003120" cy="1957320"/>
          </a:xfrm>
        </p:grpSpPr>
        <p:sp>
          <p:nvSpPr>
            <p:cNvPr id="91" name="AutoShape 34"/>
            <p:cNvSpPr/>
            <p:nvPr/>
          </p:nvSpPr>
          <p:spPr>
            <a:xfrm>
              <a:off x="6284880" y="3181320"/>
              <a:ext cx="1716840" cy="1049040"/>
            </a:xfrm>
            <a:prstGeom prst="wedgeRoundRectCallout">
              <a:avLst>
                <a:gd name="adj1" fmla="val 60398"/>
                <a:gd name="adj2" fmla="val 23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减去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，得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2" descr="13"/>
            <p:cNvPicPr/>
            <p:nvPr/>
          </p:nvPicPr>
          <p:blipFill>
            <a:blip r:embed="rId2"/>
            <a:stretch/>
          </p:blipFill>
          <p:spPr>
            <a:xfrm>
              <a:off x="8001720" y="3181320"/>
              <a:ext cx="128628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8"/>
          <p:cNvSpPr/>
          <p:nvPr/>
        </p:nvSpPr>
        <p:spPr>
          <a:xfrm>
            <a:off x="2868480" y="94788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一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24aa.eps" descr="id:2147501130;FounderCES"/>
          <p:cNvPicPr/>
          <p:nvPr/>
        </p:nvPicPr>
        <p:blipFill>
          <a:blip r:embed="rId3"/>
          <a:srcRect l="50521" t="0" r="0" b="0"/>
          <a:stretch/>
        </p:blipFill>
        <p:spPr>
          <a:xfrm>
            <a:off x="185760" y="2895480"/>
            <a:ext cx="5904000" cy="19796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2"/>
          <p:cNvGrpSpPr/>
          <p:nvPr/>
        </p:nvGrpSpPr>
        <p:grpSpPr>
          <a:xfrm>
            <a:off x="328680" y="4782960"/>
            <a:ext cx="4417920" cy="1792080"/>
            <a:chOff x="328680" y="4782960"/>
            <a:chExt cx="4417920" cy="1792080"/>
          </a:xfrm>
        </p:grpSpPr>
        <p:sp>
          <p:nvSpPr>
            <p:cNvPr id="96" name="AutoShape 31"/>
            <p:cNvSpPr/>
            <p:nvPr/>
          </p:nvSpPr>
          <p:spPr>
            <a:xfrm>
              <a:off x="1585800" y="4805280"/>
              <a:ext cx="3160800" cy="575280"/>
            </a:xfrm>
            <a:prstGeom prst="wedgeRoundRectCallout">
              <a:avLst>
                <a:gd name="adj1" fmla="val -59300"/>
                <a:gd name="adj2" fmla="val 36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的两件物品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328680" y="478296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8"/>
          <p:cNvSpPr/>
          <p:nvPr/>
        </p:nvSpPr>
        <p:spPr>
          <a:xfrm>
            <a:off x="5111640" y="491004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+42=5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083200" y="443088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30=5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137200" y="543240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28=5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202360" y="5956200"/>
            <a:ext cx="29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6+25=5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677960" y="554688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+25=5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677960" y="6064200"/>
            <a:ext cx="29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2+12=5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1"/>
          <p:cNvSpPr/>
          <p:nvPr/>
        </p:nvSpPr>
        <p:spPr>
          <a:xfrm>
            <a:off x="1386000" y="26496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买一个订书机和一个文具盒的钱去买一本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09" name="b03.jpg" descr="id:2147501218;FounderCES"/>
          <p:cNvPicPr/>
          <p:nvPr/>
        </p:nvPicPr>
        <p:blipFill>
          <a:blip r:embed="rId3"/>
          <a:stretch/>
        </p:blipFill>
        <p:spPr>
          <a:xfrm>
            <a:off x="2523960" y="3789360"/>
            <a:ext cx="4840560" cy="155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6"/>
          <p:cNvSpPr/>
          <p:nvPr/>
        </p:nvSpPr>
        <p:spPr>
          <a:xfrm>
            <a:off x="1042920" y="270828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“用买一个订书机和一个文具盒的钱去买一本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钱”要先求出买一个订书机和一个文具盒一共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减去买一本书的价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出还剩多少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484360" y="321300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+28-34=9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2:06:21Z</dcterms:created>
  <dc:creator>cuichuanxin</dc:creator>
  <dc:description/>
  <dc:language>en-US</dc:language>
  <cp:lastModifiedBy>ww.xkb1.com</cp:lastModifiedBy>
  <dcterms:modified xsi:type="dcterms:W3CDTF">2016-08-19T07:44:35Z</dcterms:modified>
  <cp:revision>3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